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090E-05A7-464D-BDAE-611D843B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4335-AD13-41AE-A659-1F551E9A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6817-A758-41DF-A16D-FE4383AC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EA04-75B2-48FA-80EA-AAC4F6F5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439E-4601-4B49-9CB9-2BCC8137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5CD6-F0C6-4B42-BD2F-E3737853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E524-1AE7-46C1-AAEC-2B38D562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7344-2DA4-405B-A160-8D3830D1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21BE-5C14-42AD-954A-774878A5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50FD-6B1C-40AB-8830-3F18BECD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5F8B-D7B3-4B75-8183-803FD268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8E0-A2B7-4DDA-8658-1F35D6D8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C621-559A-4BBB-A47E-895E76F429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zg.emis.edu.cn/" TargetMode="External"/><Relationship Id="rId2" Type="http://schemas.openxmlformats.org/officeDocument/2006/relationships/hyperlink" Target="http://jzg.emis.edu.cn/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12880" y="2367000"/>
            <a:ext cx="566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全省各级各类高校教职工基础信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采集工作视频会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4000" y="476280"/>
            <a:ext cx="80643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  EXCE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采集模板报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由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安装补丁或其他原因，可能存在无法加载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L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或运行时，出现以下画面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4643280" cy="2428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335960" y="4507560"/>
            <a:ext cx="675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打开模板时报错：无法装载这个对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为它不适用于这台计算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“开始检查”按钮时报错：运行时错误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24’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要求对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“开始检查”按钮时报错：编译错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找不到工程或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“开始检查”按钮时报错：隐含模块中的编译错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:XXXXX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如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rmXueK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856800" y="999720"/>
            <a:ext cx="79297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解决方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拷贝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SCOMCTL.OC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文件到 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:\Windows\System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目录，若已经存在同名文件，则替换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SCOMCTL.OCX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将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群中共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在“开始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”框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入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gsvr32.exe C:\Windows\System32\MSCOMCTL.OC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，然后回车执行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重新启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完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以上操作如下图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428840" y="1000080"/>
            <a:ext cx="5640120" cy="3143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3305160" cy="16668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4"/>
          <p:cNvSpPr/>
          <p:nvPr/>
        </p:nvSpPr>
        <p:spPr>
          <a:xfrm>
            <a:off x="5214960" y="1571760"/>
            <a:ext cx="2238480" cy="1028520"/>
          </a:xfrm>
          <a:prstGeom prst="wedgeRectCallout">
            <a:avLst>
              <a:gd name="adj1" fmla="val -101689"/>
              <a:gd name="adj2" fmla="val 303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操作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拷贝</a:t>
            </a: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MSCOMCTL.OCX</a:t>
            </a: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文件到此目录，若已经存在同名文件，则替换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5"/>
          <p:cNvSpPr/>
          <p:nvPr/>
        </p:nvSpPr>
        <p:spPr>
          <a:xfrm>
            <a:off x="2928960" y="2428920"/>
            <a:ext cx="928800" cy="3571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3500280" y="4143240"/>
            <a:ext cx="3857760" cy="857520"/>
          </a:xfrm>
          <a:prstGeom prst="wedgeRectCallout">
            <a:avLst>
              <a:gd name="adj1" fmla="val -48296"/>
              <a:gd name="adj2" fmla="val 858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操作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：运行如下指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regsvr32.exe C:\Windows\System32\MSCOMCTL.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7"/>
          <p:cNvSpPr/>
          <p:nvPr/>
        </p:nvSpPr>
        <p:spPr>
          <a:xfrm>
            <a:off x="2428920" y="5357880"/>
            <a:ext cx="2903400" cy="4143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161440" y="340200"/>
            <a:ext cx="512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in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操作系统下选择“以管理员身份运行”，打开“管理员：命令提示符”。如下图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4172040" cy="5295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219560" y="2781360"/>
            <a:ext cx="49244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856800" y="999720"/>
            <a:ext cx="79297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宏病毒解决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宏病毒较多，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oDO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比较常见。传播很快，打开携带宏病毒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后会被感染，病毒会通过拷贝、传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向外扩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通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瑞星检测、消灭宏病毒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采集模板中的宏，不会被当做病毒，但一旦采集模板文件感染病毒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瑞星检测杀毒时，会把宏病毒及模板中的宏全部删除，造成数据校验功能失效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建议杀毒消灭宏病毒后，重新下载新模板，并把已填写的数据拷贝到新下载的模板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64760" y="2419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高校采集模板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16320" y="906840"/>
            <a:ext cx="4215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填报数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群共享中下载采集模板，不要修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名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打开后如下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8424720" cy="2452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487240" y="4948920"/>
            <a:ext cx="68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初始模板有一条示例数据，填写前先删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476280"/>
            <a:ext cx="849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采集模板的输入形式分为：手工输入框、下拉选择框（单选）、弹出选择框。其中，弹出选择框分为复选框和树形选择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手工输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其中日期型指标，应按照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YYYMMDD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格式填写，如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13010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年月型指标，应按照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YYYMM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格式填写，如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130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“月平均工资”必须输入数字，且可保留一位小数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468360" y="4797360"/>
            <a:ext cx="7396200" cy="1928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987640" y="2276640"/>
            <a:ext cx="3629160" cy="1495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68360" y="3716280"/>
            <a:ext cx="84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下拉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下拉选择框中的选项若有具体子项，须选择具体子项，不可选择父项，如“最高学位”中“博士”下还包含了“哲学博士学位”等项目，则不可选择“博士”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68360" y="2421000"/>
            <a:ext cx="2143080" cy="1133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659640" y="2349360"/>
            <a:ext cx="213336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9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3667320" cy="1990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4500720" y="1052640"/>
            <a:ext cx="3782880" cy="2950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15400" y="54936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弹出选择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2881080" cy="4824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4608360" cy="4592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426680" y="549360"/>
            <a:ext cx="525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若学校教师数量较多可分表录入，最终上报时再合并上报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多个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间合并时，粘贴数据至目标文件时需选择“选择性粘贴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在选择性粘贴窗口中选择“数值”格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9280" y="47628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有数据完成后，点击模板上的“开始检查”按钮对数据进行校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若数据中存在错误则弹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176720" cy="1946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63720" y="357264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此同时，在模板下方也会出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00760" y="28519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确定按钮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4000" y="4221000"/>
            <a:ext cx="460836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26920" y="1715400"/>
            <a:ext cx="77774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登录地址：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zg.emis.edu.c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群：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15043729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地市县区教育局，高校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68280" y="40392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错误信息工作表（错误信息工作表不能删除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8680" y="479664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根据错误信息工作表中的提示修改错误信息，直到检查提示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5300640"/>
            <a:ext cx="1943280" cy="1235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597708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50080" y="491040"/>
            <a:ext cx="5945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据上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数据填写完成并校验通过后刻录光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合肥市金寨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2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号 安徽省教育厅信息中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教育厅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楼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315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室 程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0551-621587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使用环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高校采集模板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使用环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请使用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IE8 IE10 IE1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浏览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XP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WIN7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位）操作系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office excel 200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007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不要使用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WP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或其他版本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899640" y="1773000"/>
            <a:ext cx="7572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启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宏默认处于禁用状态，开启宏的方法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xcel200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择【工具】菜单，点击【选项】后显示如下，依次选择图中红色圆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"/>
          <p:cNvSpPr/>
          <p:nvPr/>
        </p:nvSpPr>
        <p:spPr>
          <a:xfrm>
            <a:off x="611280" y="107172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EXCEL</a:t>
            </a:r>
            <a:r>
              <a:rPr b="1" lang="zh-CN" sz="2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采集模板宏开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785880" y="1143000"/>
            <a:ext cx="6964200" cy="4572000"/>
          </a:xfrm>
          <a:prstGeom prst="rect">
            <a:avLst/>
          </a:prstGeom>
          <a:ln w="0">
            <a:noFill/>
          </a:ln>
        </p:spPr>
      </p:pic>
      <p:sp>
        <p:nvSpPr>
          <p:cNvPr id="48" name="Oval 3"/>
          <p:cNvSpPr/>
          <p:nvPr/>
        </p:nvSpPr>
        <p:spPr>
          <a:xfrm>
            <a:off x="6786720" y="1785960"/>
            <a:ext cx="780840" cy="314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4"/>
          <p:cNvSpPr/>
          <p:nvPr/>
        </p:nvSpPr>
        <p:spPr>
          <a:xfrm>
            <a:off x="6215040" y="4429080"/>
            <a:ext cx="1357200" cy="486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000160" y="1428840"/>
            <a:ext cx="4748400" cy="4286160"/>
          </a:xfrm>
          <a:prstGeom prst="rect">
            <a:avLst/>
          </a:prstGeom>
          <a:ln w="0">
            <a:noFill/>
          </a:ln>
        </p:spPr>
      </p:pic>
      <p:sp>
        <p:nvSpPr>
          <p:cNvPr id="51" name="Oval 2"/>
          <p:cNvSpPr/>
          <p:nvPr/>
        </p:nvSpPr>
        <p:spPr>
          <a:xfrm>
            <a:off x="2104920" y="3200400"/>
            <a:ext cx="1324080" cy="7286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3"/>
          <p:cNvSpPr/>
          <p:nvPr/>
        </p:nvSpPr>
        <p:spPr>
          <a:xfrm>
            <a:off x="4429080" y="5214960"/>
            <a:ext cx="1285920" cy="5713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6643800" y="2500200"/>
            <a:ext cx="1761840" cy="752760"/>
          </a:xfrm>
          <a:prstGeom prst="wedgeRectCallout">
            <a:avLst>
              <a:gd name="adj1" fmla="val -115657"/>
              <a:gd name="adj2" fmla="val 5987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选择【低】后， 选择【确定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856800" y="907560"/>
            <a:ext cx="800100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xcel200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xcel200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项】，点击【信任中心】，选择【信任中心设置】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571760" y="2708280"/>
            <a:ext cx="5879880" cy="3768840"/>
          </a:xfrm>
          <a:prstGeom prst="rect">
            <a:avLst/>
          </a:prstGeom>
          <a:ln w="0">
            <a:noFill/>
          </a:ln>
        </p:spPr>
      </p:pic>
      <p:sp>
        <p:nvSpPr>
          <p:cNvPr id="56" name="Oval 4"/>
          <p:cNvSpPr/>
          <p:nvPr/>
        </p:nvSpPr>
        <p:spPr>
          <a:xfrm>
            <a:off x="1643040" y="4314960"/>
            <a:ext cx="665280" cy="2664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6338880" y="5373720"/>
            <a:ext cx="969840" cy="3333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856800" y="1143000"/>
            <a:ext cx="8001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【信任中心】设置画面，选择【宏设置】，在画面右侧，选择【启用所有宏】，点击【确认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28760" y="2571840"/>
            <a:ext cx="801504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Oval 3"/>
          <p:cNvSpPr/>
          <p:nvPr/>
        </p:nvSpPr>
        <p:spPr>
          <a:xfrm>
            <a:off x="571680" y="3929040"/>
            <a:ext cx="714240" cy="2858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2143080" y="4214880"/>
            <a:ext cx="3214800" cy="2858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6715080" y="5572080"/>
            <a:ext cx="781200" cy="3571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5T00:59:25Z</dcterms:created>
  <dc:creator>User</dc:creator>
  <dc:description/>
  <dc:language>en-US</dc:language>
  <cp:lastModifiedBy>User</cp:lastModifiedBy>
  <dcterms:modified xsi:type="dcterms:W3CDTF">2013-10-15T09:07:40Z</dcterms:modified>
  <cp:revision>72</cp:revision>
  <dc:subject/>
  <dc:title>幻灯片 1</dc:title>
</cp:coreProperties>
</file>